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D21-6AA8-4C68-9816-6D20E6EE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480-BCB7-4EBA-8D7B-44008105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FF2-1E22-4AA2-9387-109608D8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1F28-B431-460D-A90E-23E84F21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807-153E-45B5-9004-A2BB484F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2C8-B8E9-4890-95D2-F05FE4E5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91A-06C7-4F1A-B722-735C745F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6B3-9270-41B7-AE71-BED718AA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541-6128-4D8B-BAA4-B89AAADC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79E-AE19-4D0D-B281-06B8E90D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9D4-EA3C-46B9-B4BE-B813BDF4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07F-A38E-4652-9EE4-63C382A6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F123-50C5-49BA-AD4F-BC753FD32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00200" y="2438280"/>
            <a:ext cx="5943600" cy="2743200"/>
            <a:chOff x="1600200" y="2438280"/>
            <a:chExt cx="5943600" cy="2743200"/>
          </a:xfrm>
        </p:grpSpPr>
        <p:sp>
          <p:nvSpPr>
            <p:cNvPr id="43" name=""/>
            <p:cNvSpPr/>
            <p:nvPr/>
          </p:nvSpPr>
          <p:spPr>
            <a:xfrm>
              <a:off x="3962520" y="2438280"/>
              <a:ext cx="1295280" cy="60948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038480" y="25142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09680" y="3581280"/>
              <a:ext cx="1295640" cy="60948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562720" y="3581280"/>
              <a:ext cx="1295280" cy="60948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00200" y="4571640"/>
              <a:ext cx="914400" cy="60984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629400" y="4571640"/>
              <a:ext cx="914400" cy="60984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05520" y="4571640"/>
              <a:ext cx="914400" cy="60984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2680" y="4571640"/>
              <a:ext cx="914400" cy="60984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0920" y="3733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19920" y="3733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52480" y="4647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57800" y="4647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81680" y="4647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05320" y="4647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33526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9520" y="3352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2200" y="3352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0" y="3047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7400" y="44193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9880" y="4419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57400" y="4419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19520" y="4190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86400" y="44193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86400" y="4419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10280" y="4419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72200" y="4190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L11.2.1 - Line Organiz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and Staff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600200" y="2057400"/>
            <a:ext cx="5943600" cy="3504960"/>
            <a:chOff x="1600200" y="2057400"/>
            <a:chExt cx="5943600" cy="3504960"/>
          </a:xfrm>
        </p:grpSpPr>
        <p:grpSp>
          <p:nvGrpSpPr>
            <p:cNvPr id="71" name=""/>
            <p:cNvGrpSpPr/>
            <p:nvPr/>
          </p:nvGrpSpPr>
          <p:grpSpPr>
            <a:xfrm>
              <a:off x="1600200" y="2057400"/>
              <a:ext cx="5943600" cy="3504960"/>
              <a:chOff x="1600200" y="2057400"/>
              <a:chExt cx="5943600" cy="35049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1600200" y="2057400"/>
                <a:ext cx="5943600" cy="3504960"/>
                <a:chOff x="1600200" y="2057400"/>
                <a:chExt cx="5943600" cy="35049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962520" y="2057400"/>
                  <a:ext cx="1295280" cy="609480"/>
                </a:xfrm>
                <a:prstGeom prst="flowChartProcess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114800" y="220968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209680" y="3962160"/>
                  <a:ext cx="1295640" cy="609840"/>
                </a:xfrm>
                <a:prstGeom prst="flowChartProcess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562720" y="3962160"/>
                  <a:ext cx="1295280" cy="609840"/>
                </a:xfrm>
                <a:prstGeom prst="flowChartProcess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00200" y="4952880"/>
                  <a:ext cx="914400" cy="609480"/>
                </a:xfrm>
                <a:prstGeom prst="flowChartProcess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629400" y="4952880"/>
                  <a:ext cx="914400" cy="609480"/>
                </a:xfrm>
                <a:prstGeom prst="flowChartProcess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105520" y="4952880"/>
                  <a:ext cx="914400" cy="609480"/>
                </a:xfrm>
                <a:prstGeom prst="flowChartProcess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352680" y="4952880"/>
                  <a:ext cx="914400" cy="609480"/>
                </a:xfrm>
                <a:prstGeom prst="flowChartProcess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590920" y="41148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19920" y="41148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752480" y="50292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257800" y="50292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781680" y="50292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505320" y="50292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819520" y="3733560"/>
                  <a:ext cx="3352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819520" y="37335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172200" y="37335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572000" y="266688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057400" y="4800600"/>
                  <a:ext cx="175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0988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05740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819520" y="45720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486400" y="4800600"/>
                  <a:ext cx="152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48640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010280" y="48006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172200" y="45720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3352680" y="2971800"/>
                <a:ext cx="914400" cy="45720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876920" y="2971800"/>
                <a:ext cx="914400" cy="45720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581280" y="2971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05520" y="2971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09880" y="2819160"/>
                <a:ext cx="15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09880" y="28191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28191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5791320" y="2971800"/>
              <a:ext cx="106668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67080" y="3200400"/>
              <a:ext cx="129564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209320" y="297180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505320" y="320040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L11.2.2 - Line and Staff Organiz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00200" y="1981080"/>
            <a:ext cx="5943600" cy="3504960"/>
            <a:chOff x="1600200" y="1981080"/>
            <a:chExt cx="5943600" cy="3504960"/>
          </a:xfrm>
        </p:grpSpPr>
        <p:grpSp>
          <p:nvGrpSpPr>
            <p:cNvPr id="112" name=""/>
            <p:cNvGrpSpPr/>
            <p:nvPr/>
          </p:nvGrpSpPr>
          <p:grpSpPr>
            <a:xfrm>
              <a:off x="1600200" y="1981080"/>
              <a:ext cx="5943600" cy="3504960"/>
              <a:chOff x="1600200" y="1981080"/>
              <a:chExt cx="5943600" cy="350496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520" y="1981080"/>
                <a:ext cx="1295280" cy="60948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14800" y="213336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09680" y="3885840"/>
                <a:ext cx="1295640" cy="60984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62720" y="3885840"/>
                <a:ext cx="1295280" cy="60984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00200" y="4876560"/>
                <a:ext cx="914400" cy="60948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629400" y="4876560"/>
                <a:ext cx="914400" cy="60948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105520" y="4876560"/>
                <a:ext cx="914400" cy="60948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2680" y="4876560"/>
                <a:ext cx="914400" cy="60948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90920" y="4038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019920" y="40384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52480" y="4952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257800" y="4952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81680" y="4952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05320" y="4952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19520" y="36572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19520" y="36572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72200" y="36572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72000" y="259056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57400" y="472428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09880" y="47242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57400" y="47242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819520" y="4495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86400" y="472428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86400" y="47242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10280" y="47242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172200" y="4495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352680" y="2895480"/>
              <a:ext cx="914400" cy="45720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6920" y="2895480"/>
              <a:ext cx="914400" cy="45720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1280" y="2895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5520" y="2895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9880" y="274284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9880" y="2742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4120" y="2742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L11.2.3 - Functional Organiz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16:37:16Z</dcterms:created>
  <dc:creator>Amanda Anderson</dc:creator>
  <dc:description/>
  <dc:language>en-US</dc:language>
  <cp:lastModifiedBy>Student FB Wirtschaft</cp:lastModifiedBy>
  <cp:lastPrinted>2000-03-07T17:09:17Z</cp:lastPrinted>
  <dcterms:modified xsi:type="dcterms:W3CDTF">2008-11-07T20:13:39Z</dcterms:modified>
  <cp:revision>1</cp:revision>
  <dc:subject/>
  <dc:title>Line Organization</dc:title>
</cp:coreProperties>
</file>